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ACD-33FE-4FBB-B358-F23969A6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A80-1DDA-42DB-A1E9-5BCD08F9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109-B93A-49D9-8675-66D62E27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BE0-A4CC-4753-A0E5-AEBFC02B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51B-1698-47CD-AAD5-2F3505A5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A33-E421-4FBF-B221-1018AE8F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06B-B65C-4819-A691-5343DC86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71F-4CB9-4C7A-981F-BB9FCC97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F84-64BA-47A1-921F-C9987FEF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2BF-CFF7-49F4-B5A0-758797CE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FBB-F65D-4919-90BB-34ACD4B5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A3D-815B-4387-B983-DF232DA6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18C0-E8D7-4710-A722-FDD6B933947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8 Pán Ježiš je mi všetký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šťastím srdce sp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pokoj doň mi vl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emusím byť 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je mi všetk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Pastier môj i Krá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biedny som bol predt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om ho nepozn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ám ma neoslov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 prázdny život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 on sa ku mne skloni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íšil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šťastím srdce sp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pokoj doň mi vl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emusím by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chodiť s Pánom den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jeho rady db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erne v jeho me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stále boj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čo on chystá pre mň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or tiesne z úskal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radosť zo spas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ič tu neska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šťastím srdce sp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pokoj doň mi vl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emusím by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záleží len na t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v Bohu bohat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nechcem striebro, zlat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vzácne pokla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m najväčší dar n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m lásku Kristov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iac mi ešte tr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ceste k domov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31:57Z</dcterms:modified>
  <cp:revision>31</cp:revision>
  <dc:subject/>
  <dc:title>Je veľký náš Pán, on slávy je Kráľ Nech do všetkých strán  spev vrúcnych znie chvál.</dc:title>
</cp:coreProperties>
</file>